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4078F7-FD29-4CE8-B9F6-24535C66AD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A9D073-688C-40F5-8211-6748970456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1E771E-F1A8-44E8-8238-FD0B5EE897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31A7F2-1E59-4044-B0DD-659EAA5778C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9831A8-4485-4D44-8EC6-C46C26CCF89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97A1B7-8AB3-4ADC-AB78-A280F3E51C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C66D31-752E-4ABF-B4FC-75AB6D5A2F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C03466-9D99-4883-A53A-1BE33F3905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9AA94F-3EB6-48A1-9FA9-CAE7DB1405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18F242-AC7B-4C3F-BDFF-9885523DFE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511340-8EE4-4D7A-9329-BE262ACAA9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D641F8-8E9B-48E6-BE92-FCC6FC53A8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492DB-96C1-4881-BFDE-EE347972A8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093680" y="1733400"/>
            <a:ext cx="312840" cy="495360"/>
            <a:chOff x="1093680" y="173340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171800" y="17334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249920" y="18748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13220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24992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093680" y="1981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758960" y="166680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97120" y="172872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82880" y="2038320"/>
            <a:ext cx="5238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58960" y="233352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84400" y="22971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76280" y="1914480"/>
            <a:ext cx="3762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135252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200" y="2266920"/>
            <a:ext cx="990720" cy="304920"/>
          </a:xfrm>
          <a:custGeom>
            <a:avLst/>
            <a:gdLst>
              <a:gd name="textAreaLeft" fmla="*/ 154800 w 990720"/>
              <a:gd name="textAreaRight" fmla="*/ 866880 w 9907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83240" y="19051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21400" y="20541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72320" y="253512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591160" y="2572920"/>
            <a:ext cx="1100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Document"/>
          <p:cNvSpPr/>
          <p:nvPr/>
        </p:nvSpPr>
        <p:spPr>
          <a:xfrm>
            <a:off x="4651200" y="4179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10160" y="419256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3822840" y="4446720"/>
            <a:ext cx="312480" cy="501480"/>
            <a:chOff x="3822840" y="4446720"/>
            <a:chExt cx="312480" cy="501480"/>
          </a:xfrm>
        </p:grpSpPr>
        <p:sp>
          <p:nvSpPr>
            <p:cNvPr id="61" name=""/>
            <p:cNvSpPr/>
            <p:nvPr/>
          </p:nvSpPr>
          <p:spPr>
            <a:xfrm>
              <a:off x="3900960" y="444672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979080" y="45900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386136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7908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22840" y="469728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 flipH="1">
            <a:off x="4088880" y="4408560"/>
            <a:ext cx="5590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52243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67160" y="536112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24320" y="5905440"/>
            <a:ext cx="1138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38440" y="586908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75120" y="4929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335720" y="203184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467480" y="21337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6725880" y="2286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9680" y="20192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47160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K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456000" y="1687680"/>
            <a:ext cx="295200" cy="5871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3693960" y="1847880"/>
            <a:ext cx="295560" cy="5875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394080" y="1459080"/>
            <a:ext cx="6364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700440" y="23734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911320" y="15350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721400" y="2144880"/>
            <a:ext cx="312480" cy="495000"/>
            <a:chOff x="4721400" y="2144880"/>
            <a:chExt cx="312480" cy="495000"/>
          </a:xfrm>
        </p:grpSpPr>
        <p:sp>
          <p:nvSpPr>
            <p:cNvPr id="83" name=""/>
            <p:cNvSpPr/>
            <p:nvPr/>
          </p:nvSpPr>
          <p:spPr>
            <a:xfrm>
              <a:off x="4799520" y="214488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7640" y="22863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75992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87764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721400" y="23922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3886200" y="295596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046840" y="2297160"/>
            <a:ext cx="5331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8600" y="17636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7200" y="2144880"/>
            <a:ext cx="774720" cy="1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4191120" y="2436840"/>
            <a:ext cx="550800" cy="53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00400" y="3257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686480" y="2673000"/>
            <a:ext cx="15696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Document"/>
          <p:cNvSpPr/>
          <p:nvPr/>
        </p:nvSpPr>
        <p:spPr>
          <a:xfrm>
            <a:off x="4406760" y="302904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354560" y="30621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054760" y="2743200"/>
            <a:ext cx="583920" cy="141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654280" y="5665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64240" y="3441600"/>
            <a:ext cx="129528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664240" y="4254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21440" y="425916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78360" y="356868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6084000" y="2919960"/>
            <a:ext cx="406440" cy="249120"/>
          </a:xfrm>
          <a:custGeom>
            <a:avLst/>
            <a:gdLst>
              <a:gd name="textAreaLeft" fmla="*/ 63360 w 406440"/>
              <a:gd name="textAreaRight" fmla="*/ 355680 w 406440"/>
              <a:gd name="textAreaTop" fmla="*/ 62280 h 249120"/>
              <a:gd name="textAreaBottom" fmla="*/ 186840 h 249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87920" y="3314880"/>
            <a:ext cx="144792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64240" y="4648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3:07Z</dcterms:modified>
  <cp:revision>154</cp:revision>
  <dc:subject/>
  <dc:title>Slide 1</dc:title>
</cp:coreProperties>
</file>