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99462"/>
        <c:axId val="23910109"/>
      </c:barChart>
      <c:catAx>
        <c:axId val="6199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10109"/>
        <c:crosses val="autoZero"/>
        <c:auto val="1"/>
        <c:lblAlgn val="ctr"/>
        <c:lblOffset val="100"/>
        <c:noMultiLvlLbl val="0"/>
      </c:catAx>
      <c:valAx>
        <c:axId val="239101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9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93F-07BA-4A6B-A08E-8F77BE96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0EB-4D26-46BE-A75B-265EFA2B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F43-DCCF-4D7F-A3AF-AEB286EC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3D0-CBB3-47AC-A68C-9D05B4BB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8CEE-B5BE-4669-B58D-CA23B7427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C303-0D0D-4C4D-93DA-156AF37F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A836-001D-4451-8A67-5285073F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9461-C563-43BD-8512-28C5E9190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546A-304B-4BAC-AB71-879BC623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1493-DD22-49E0-8B39-6DD55407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60D-D157-4885-9A6A-0DEF7641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4EF9-BE7F-4920-B895-DAB4A8B3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18290-BE82-4CC7-9C5F-C5A7523A85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