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613703"/>
        <c:axId val="67431412"/>
      </c:barChart>
      <c:catAx>
        <c:axId val="266137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31412"/>
        <c:crosses val="autoZero"/>
        <c:auto val="1"/>
        <c:lblAlgn val="ctr"/>
        <c:lblOffset val="100"/>
        <c:noMultiLvlLbl val="0"/>
      </c:catAx>
      <c:valAx>
        <c:axId val="674314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137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AADC-265E-40DE-A7E2-604CA89F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1978-7C20-4A8A-80D5-277076E8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FD48-0A9D-4A55-94BB-77E5A50C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B771-DA54-4AFC-901D-EDE1C6A84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A7EF-8466-4515-BCFF-CADC089B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67E4-8FE5-4A13-A604-B5084046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76D1-F5EF-480B-9CD0-266E59BF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DB23-A687-4794-A283-485A6907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E81A-EB28-4E31-869C-EA39391A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7059-4774-4C5D-B435-9A9569F9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2FCA-4843-4A94-B8DC-CD51A759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F43C-2CBC-4CD7-B74C-688F320C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2D4DF-8BFB-4C89-8C68-365FC64ED7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