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82148"/>
        <c:axId val="65438175"/>
      </c:barChart>
      <c:catAx>
        <c:axId val="42482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38175"/>
        <c:crosses val="autoZero"/>
        <c:auto val="1"/>
        <c:lblAlgn val="ctr"/>
        <c:lblOffset val="100"/>
        <c:noMultiLvlLbl val="0"/>
      </c:catAx>
      <c:valAx>
        <c:axId val="65438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82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A53-6836-4D89-AE25-9FDE0EF2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086-84AE-464E-BA29-A982F3AF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01F-3EA9-4326-A298-4511AA96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360-B01C-4B2D-8808-A66021BC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FD6-A6ED-4F99-8531-DD049AA4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334-586D-4DDA-A6DB-C4DA5A4F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C27-EC77-469C-9B49-F2618BD9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20F-5496-41E1-BE8E-2E3859C9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93D-E8F4-48E3-AB74-8612C7C2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3E9-3EFF-46AD-A8AE-8041B98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7D2-3E83-42CA-AA4B-4CCBE41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593-7F9D-4225-B86D-53EA9DF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72FCB-787F-4436-B7C4-E56B18E87F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