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65601"/>
        <c:axId val="83371131"/>
      </c:barChart>
      <c:catAx>
        <c:axId val="25656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371131"/>
        <c:crosses val="autoZero"/>
        <c:auto val="1"/>
        <c:lblAlgn val="ctr"/>
        <c:lblOffset val="100"/>
        <c:noMultiLvlLbl val="0"/>
      </c:catAx>
      <c:valAx>
        <c:axId val="833711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656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EECC-F00A-4482-BCBA-387521F62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DBB7-94F9-45A6-8277-6774EC4CC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C7D7-667E-495B-AD48-C60C88DBB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AD61-F1C8-45B2-B99F-6CEE79E9E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F29E-0949-452E-BFBF-DCC7A37FB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29ED-4FB7-4EE8-864C-D4908A7E8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40CB-295A-4591-9230-81DBD7D35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961F-08D6-4059-BDB0-4FFFFD3EF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C3DD-9BAE-427D-B3B2-FF0CF1905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B113-6AF0-4343-8405-9946942D3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54B4-C456-4C3D-B9CA-702AB41B9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A318-8F3D-42CB-89A8-939F21D81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051978-349D-4B36-8D38-AE5BF97AAA8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