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72553"/>
        <c:axId val="81973962"/>
      </c:barChart>
      <c:catAx>
        <c:axId val="32572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73962"/>
        <c:crosses val="autoZero"/>
        <c:auto val="1"/>
        <c:lblAlgn val="ctr"/>
        <c:lblOffset val="100"/>
        <c:noMultiLvlLbl val="0"/>
      </c:catAx>
      <c:valAx>
        <c:axId val="81973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72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6BC-A3D6-4D6E-8140-84912494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9CB-B228-4682-87DF-D2592732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F0B-2E4B-479A-820A-6B0E9E1C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A09-DDF6-4853-B22C-7F560C99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5A6-C3E6-4A8F-AD2C-3622267D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31C-A8CF-4E6C-AAAF-1F3C0B0E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27D-CE52-4D69-B46D-BEF3B8C2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FEC-DA01-4EB5-86D0-1002E668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930-9D39-4F17-94D2-98B3B824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317-FEE4-4704-98D7-D99DACC1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97F-6D30-4BBD-8FEB-D822DFBA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992-C2D7-484D-8D83-CEF18A00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CF83D-2A96-4F13-96FB-364F9729BA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