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31081"/>
        <c:axId val="20693376"/>
      </c:barChart>
      <c:catAx>
        <c:axId val="32631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93376"/>
        <c:crosses val="autoZero"/>
        <c:auto val="1"/>
        <c:lblAlgn val="ctr"/>
        <c:lblOffset val="100"/>
        <c:noMultiLvlLbl val="0"/>
      </c:catAx>
      <c:valAx>
        <c:axId val="20693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31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BDF-BD6B-417D-9551-8683FCD2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767-307D-435E-8460-407E14DB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6E7-E303-4647-85E2-35391321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80C-DED1-4CA7-B507-DD834717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883-591E-42D4-849F-5A964CEB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B13-76C2-423E-B69C-D513486A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041-E10E-4A6F-88CB-7A3E75BA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75E-4339-43D0-87CA-E73532AF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CDF-08C8-4C74-B3B1-BD312E2E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7A4-EA3D-4858-97AF-49E02689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D65-D9D8-4ADE-BBB8-20463D7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B52-2BD3-4312-A804-93C06EFD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321C8-EC1B-4AA7-A64B-0089074F0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