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922588"/>
        <c:axId val="53402558"/>
      </c:barChart>
      <c:catAx>
        <c:axId val="899225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402558"/>
        <c:crosses val="autoZero"/>
        <c:auto val="1"/>
        <c:lblAlgn val="ctr"/>
        <c:lblOffset val="100"/>
        <c:noMultiLvlLbl val="0"/>
      </c:catAx>
      <c:valAx>
        <c:axId val="534025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9225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8C56-AE03-4A8C-8C22-AEC58EC27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4788-5572-4B29-9C02-594202BFA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021B-DE2C-44F4-AA5D-0CFDC9BD8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BA3C-64A2-4496-921A-65ED38749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8389-4F27-4DAF-A831-1835829AC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F1E5-BBAC-4A20-A142-FAC697969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B468-12EC-43B7-A6B5-5339DD9D8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6B34-B200-49DD-B45B-5A3E260B0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AA9F-69DF-4777-80DB-B152F4F9C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82F2-CC6B-429D-98F5-DD2F42FA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064F-6F68-4439-B4C5-F863938CA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73D0-FFEF-4F58-9617-416D97D7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1C1E62-B5C8-4BDD-A68B-B57672D0B87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