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419981"/>
        <c:axId val="76763794"/>
      </c:barChart>
      <c:catAx>
        <c:axId val="854199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763794"/>
        <c:crosses val="autoZero"/>
        <c:auto val="1"/>
        <c:lblAlgn val="ctr"/>
        <c:lblOffset val="100"/>
        <c:noMultiLvlLbl val="0"/>
      </c:catAx>
      <c:valAx>
        <c:axId val="767637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4199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CF72-C867-4E1C-A832-9468C74AB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BDB6-0B8F-43C7-9F05-B44380B9E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4CF9-B357-48C4-BC7E-E9149B07D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4584-724B-482D-8C96-CEA5C6627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9DCF-C216-42B6-A3B5-44EED8ABB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D743-3901-4411-9C1F-BB7DA012B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2E35-79BB-4079-9D00-BA0B44ECB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1253-C8BB-42FF-A927-072FE42F1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BF16-EA65-4507-A69B-ECD596826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AE5B-150F-483F-AA9E-849018A35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A3E9-0EBA-49BF-8D50-667BDD5A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24A0-241A-4D6E-9040-217488F0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981C29-61FD-4FBB-82C3-4A9ADCE9F7E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