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31037"/>
        <c:axId val="44150642"/>
      </c:barChart>
      <c:catAx>
        <c:axId val="26231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0642"/>
        <c:crosses val="autoZero"/>
        <c:auto val="1"/>
        <c:lblAlgn val="ctr"/>
        <c:lblOffset val="100"/>
        <c:noMultiLvlLbl val="0"/>
      </c:catAx>
      <c:valAx>
        <c:axId val="44150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1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8DE-21A5-4698-9370-8AF5D287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BB9-642D-4F4E-AFA1-9939963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F19-EE56-45D1-AD06-AEFA36A7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01F-120A-4402-8510-52859C0A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8A4-75F2-486A-B13A-E585E42F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1D9-508E-44EC-8576-F70DDC2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261-8DD0-4B07-AA2E-E35E175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06D-B7BF-42B7-BA59-3FC8257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642-6AC7-4F22-9C1B-B5AED42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523-A533-4610-98E7-729B727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687-F33C-4589-BF6E-200ED902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BB1-072F-47A1-A66D-60F7040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9373-5D52-485C-B655-8AABE1DBCD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