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08641"/>
        <c:axId val="69211293"/>
      </c:barChart>
      <c:catAx>
        <c:axId val="26008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11293"/>
        <c:crosses val="autoZero"/>
        <c:auto val="1"/>
        <c:lblAlgn val="ctr"/>
        <c:lblOffset val="100"/>
        <c:noMultiLvlLbl val="0"/>
      </c:catAx>
      <c:valAx>
        <c:axId val="69211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08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FE0-42C0-4686-878F-DF4B1551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2AE-F940-424D-9736-27837A58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9B42-8DAE-4D46-AAA3-04A3BAB4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1FD-5E2F-42E2-AC44-757B0DF4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A60-F805-4B6D-B238-FE59BFEB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2B4-0620-4366-8335-1F2A2CE7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EBA-F8AF-4E34-AF43-20759DB9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598-BF77-43D4-9D72-00879BB6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FA7-C4DC-4247-A87E-D4E3F446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0CF-479A-49FE-9E78-882E244A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08E-4240-4367-B216-C2FF9BE1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507-9F52-4732-B3D5-6B44EECC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1C6C5-7587-4035-A4F0-7AE6BCC068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