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50357"/>
        <c:axId val="3157352"/>
      </c:barChart>
      <c:catAx>
        <c:axId val="85750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7352"/>
        <c:crosses val="autoZero"/>
        <c:auto val="1"/>
        <c:lblAlgn val="ctr"/>
        <c:lblOffset val="100"/>
        <c:noMultiLvlLbl val="0"/>
      </c:catAx>
      <c:valAx>
        <c:axId val="3157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50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C8B-C124-4332-B29F-D09BC61E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076F-0556-415F-8E7D-8DD86657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731-CCC8-4674-B931-B349B0A0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50C-17D4-4EB6-9728-981799F4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5E2-8CCC-4E3B-8595-BAE4DB71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4F7-9F5E-444C-AE24-9FDA3731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8AF-BD62-41D5-B543-A78104B1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AA5-63E1-4D41-874F-037F2802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FD8-4BE8-4C72-A6A4-9BBF4874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F2B-228C-4778-A7CC-EE52FA2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58B-5E46-4751-B589-311921DD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902-FD0B-4B0E-82F3-5E206855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7AB12-AAD6-4D0C-88ED-6AF73B7CBB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