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06971"/>
        <c:axId val="9635135"/>
      </c:barChart>
      <c:catAx>
        <c:axId val="98906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5135"/>
        <c:crosses val="autoZero"/>
        <c:auto val="1"/>
        <c:lblAlgn val="ctr"/>
        <c:lblOffset val="100"/>
        <c:noMultiLvlLbl val="0"/>
      </c:catAx>
      <c:valAx>
        <c:axId val="9635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06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20A-E468-47A0-9624-E22C1FA9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D75-6B70-4407-BA30-4E54AFAD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4EC-5BD7-4EBA-B1FD-5D8459A8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FFC-4E14-42B8-AE5D-CF4EDA59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F58-AFCA-41BE-8E8A-91973C65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491-523C-4289-894B-CC19137B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B23-9A30-43FF-B9A0-1DCE4AC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1E0-EB1F-4919-8ECA-34F52A5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1FD-A7D5-45DC-8B00-1BF9BF89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81F-5420-4DA0-882F-637BC2E1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411-049C-4BF7-9896-87C5CBF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333-E936-442A-8ECE-EE72E081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46B16-A726-4FF4-AA6E-8C5AB3D0ED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