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272520"/>
        <c:axId val="67669407"/>
      </c:barChart>
      <c:catAx>
        <c:axId val="692725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669407"/>
        <c:crosses val="autoZero"/>
        <c:auto val="1"/>
        <c:lblAlgn val="ctr"/>
        <c:lblOffset val="100"/>
        <c:noMultiLvlLbl val="0"/>
      </c:catAx>
      <c:valAx>
        <c:axId val="676694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725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9DCE-4F84-4652-9509-8DE43C5A0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413A-B073-45E8-AA4A-BE6AD5B4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59E0-E2F9-4BDC-A6D2-C3A3311F8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168F-7900-41C6-9B7C-6BA780C86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B651-AF75-4288-9E3D-6A5D8D9A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619E-9434-4410-8003-7AD717FF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F9AB-3D4A-465C-B518-D54FD9CE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CE83-494D-4E6A-AD3E-B727D5D9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13A7-6A8D-465B-BC27-A69FD510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A0F3-5EB1-4CF3-8B48-F51F9170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EB36-AEB8-4041-A019-338C6B8C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15C1-7213-43E7-AACE-6E004081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37BE4E-6CDA-418C-AF10-25F9EE4AD3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