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28168"/>
        <c:axId val="70666054"/>
      </c:barChart>
      <c:catAx>
        <c:axId val="66928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6054"/>
        <c:crosses val="autoZero"/>
        <c:auto val="1"/>
        <c:lblAlgn val="ctr"/>
        <c:lblOffset val="100"/>
        <c:noMultiLvlLbl val="0"/>
      </c:catAx>
      <c:valAx>
        <c:axId val="70666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8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C85-CD4F-49BB-A252-F48611E2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FE4-A0E4-42B8-A242-5106B553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96-F112-4C1E-9C38-C2E14477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DBA-7B3D-4A0D-B709-122F9F44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47F-7E31-45E1-8730-4DBB4CB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627-1FB4-49DF-B86A-522440F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3E6-8340-4944-A252-0F01EC34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7E6-3691-4C27-90CC-FA7A50A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531-D622-456E-8AD7-DD232FF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BB6-F5E0-4DFC-AB1C-74D9CD5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792-BD7F-494C-8E5A-0239C5E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D7B-D91E-4228-A635-BA6D5B5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32E62-77D0-4A35-8C53-873B3635C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