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292756"/>
        <c:axId val="45477735"/>
      </c:barChart>
      <c:catAx>
        <c:axId val="462927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77735"/>
        <c:crosses val="autoZero"/>
        <c:auto val="1"/>
        <c:lblAlgn val="ctr"/>
        <c:lblOffset val="100"/>
        <c:noMultiLvlLbl val="0"/>
      </c:catAx>
      <c:valAx>
        <c:axId val="454777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927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A868-B9E1-46CE-97BE-6AEFBB7E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783B-D20B-4144-9EB6-03CB9883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AB84-9701-4810-A725-7127B616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1E2B-2082-43CC-A213-559413BA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2956-8238-4186-ACAB-732F3A93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75EB-2863-4848-B9B8-04A16BBD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6FA3-7FEB-44BA-9ADB-654E1BA8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D58A-771E-4BB6-84A2-FBE20E80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7CF7-C040-4104-98F1-FDBE909D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C98C-0511-4A89-A187-D37465A6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D035-692A-46B5-9094-29FA469C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8DD2-4C80-4182-88D4-5B7EFB3B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52131-1DC4-4F68-82E4-B794C107CC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