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67391"/>
        <c:axId val="24409137"/>
      </c:barChart>
      <c:catAx>
        <c:axId val="63967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9137"/>
        <c:crosses val="autoZero"/>
        <c:auto val="1"/>
        <c:lblAlgn val="ctr"/>
        <c:lblOffset val="100"/>
        <c:noMultiLvlLbl val="0"/>
      </c:catAx>
      <c:valAx>
        <c:axId val="24409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67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0EF-E9C0-4F40-AB29-00EEFC14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9E7-8600-498C-A4DD-8A73517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3C0-31E0-45E9-A31A-BB7882A5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1DF-4C1D-40C5-BEC4-C2BDFFF7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028-52C9-458C-BD57-E1FF9D1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71B-F482-4E85-9CA9-24500C8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232-0A23-458A-B766-AA3F861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E16-B7CA-4CD3-A6F3-F618CE0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255-3A63-4FEF-AC61-3AAB59AE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0F9-0C3B-4D13-9300-9310EA8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759-AC81-4832-A0CA-39910C1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3B8-78B7-46AB-BFC6-43A73F5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08C69-8E0F-48B0-B170-E80307A88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