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774673"/>
        <c:axId val="3442938"/>
      </c:barChart>
      <c:catAx>
        <c:axId val="727746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2938"/>
        <c:crosses val="autoZero"/>
        <c:auto val="1"/>
        <c:lblAlgn val="ctr"/>
        <c:lblOffset val="100"/>
        <c:noMultiLvlLbl val="0"/>
      </c:catAx>
      <c:valAx>
        <c:axId val="3442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746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46C-2B6E-493C-8A8F-5E466223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8A7D-9B3A-4289-AFA7-63E40F3C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E144-8AF9-4E83-A3C8-C84851EE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C621-096C-4427-84C4-96745648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F7AF-44E8-4301-AED0-1D881505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8894-51E1-477F-9F01-004E0722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814-409A-447D-AF27-2294EE03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BE1C-63A2-4EE6-BA53-043CD09C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E7B7-1B10-479E-BB01-1F158EFC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145D-E00D-4405-911A-6ED35804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C031-5D5A-46C0-B37C-71288394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5110-5771-4B1B-84CB-4D89B7BA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D587B-DA9D-4E09-9984-A6F4D46714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